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0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8.jpeg" ContentType="image/jpeg"/>
  <Override PartName="/ppt/media/image12.jpeg" ContentType="image/jpeg"/>
  <Override PartName="/ppt/media/image11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4.png" ContentType="image/png"/>
  <Override PartName="/ppt/media/image13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44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w soil module YASSO has 5 soil C pools calibrated on extensive set of litter decomposition experiment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clusion of YASSO into JSBA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14480" indent="-114480">
              <a:buClr>
                <a:srgbClr val="000000"/>
              </a:buClr>
              <a:buFont typeface="Calibri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proved the total soil C storage (overestimated by a factor of 2 in the CMIP5 version, middle plot), and made carbon storage patterns more realistic (top vs bottom plots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14480" indent="-114480">
              <a:buClr>
                <a:srgbClr val="000000"/>
              </a:buClr>
              <a:buFont typeface="Calibri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duced soil C sensitivity to warming (right plot), as there is more carbon in faster than in the slower poo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44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w soil module YASSO has 5 soil C pools calibrated on extensive set of litter decomposition experiment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clusion of YASSO into JSBA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14480" indent="-114480">
              <a:buClr>
                <a:srgbClr val="000000"/>
              </a:buClr>
              <a:buFont typeface="Calibri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proved the total soil C storage (overestimated by a factor of 2 in the CMIP5 version, middle plot), and made carbon storage patterns more realistic (top vs bottom plots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14480" indent="-114480">
              <a:buClr>
                <a:srgbClr val="000000"/>
              </a:buClr>
              <a:buFont typeface="Calibri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duced soil C sensitivity to warming (right plot), as there is more carbon in faster than in the slower poo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44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w soil module YASSO has 5 soil C pools calibrated on extensive set of litter decomposition experiment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clusion of YASSO into JSBA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14480" indent="-114480">
              <a:buClr>
                <a:srgbClr val="000000"/>
              </a:buClr>
              <a:buFont typeface="Calibri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proved the total soil C storage (overestimated by a factor of 2 in the CMIP5 version, middle plot), and made carbon storage patterns more realistic (top vs bottom plots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14480" indent="-114480">
              <a:buClr>
                <a:srgbClr val="000000"/>
              </a:buClr>
              <a:buFont typeface="Calibri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duced soil C sensitivity to warming (right plot), as there is more carbon in faster than in the slower poo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44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w soil module YASSO has 5 soil C pools calibrated on extensive set of litter decomposition experiment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clusion of YASSO into JSBA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14480" indent="-114480">
              <a:buClr>
                <a:srgbClr val="000000"/>
              </a:buClr>
              <a:buFont typeface="Calibri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proved the total soil C storage (overestimated by a factor of 2 in the CMIP5 version, middle plot), and made carbon storage patterns more realistic (top vs bottom plots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14480" indent="-114480">
              <a:buClr>
                <a:srgbClr val="000000"/>
              </a:buClr>
              <a:buFont typeface="Calibri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duced soil C sensitivity to warming (right plot), as there is more carbon in faster than in the slower poo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44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w soil module YASSO has 5 soil C pools calibrated on extensive set of litter decomposition experiment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clusion of YASSO into JSBA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14480" indent="-114480">
              <a:buClr>
                <a:srgbClr val="000000"/>
              </a:buClr>
              <a:buFont typeface="Calibri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proved the total soil C storage (overestimated by a factor of 2 in the CMIP5 version, middle plot), and made carbon storage patterns more realistic (top vs bottom plots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14480" indent="-114480">
              <a:buClr>
                <a:srgbClr val="000000"/>
              </a:buClr>
              <a:buFont typeface="Calibri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duced soil C sensitivity to warming (right plot), as there is more carbon in faster than in the slower poo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44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w soil module YASSO has 5 soil C pools calibrated on extensive set of litter decomposition experiment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clusion of YASSO into JSBA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14480" indent="-114480">
              <a:buClr>
                <a:srgbClr val="000000"/>
              </a:buClr>
              <a:buFont typeface="Calibri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proved the total soil C storage (overestimated by a factor of 2 in the CMIP5 version, middle plot), and made carbon storage patterns more realistic (top vs bottom plots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14480" indent="-114480">
              <a:buClr>
                <a:srgbClr val="000000"/>
              </a:buClr>
              <a:buFont typeface="Calibri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duced soil C sensitivity to warming (right plot), as there is more carbon in faster than in the slower poo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44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w soil module YASSO has 5 soil C pools calibrated on extensive set of litter decomposition experiment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clusion of YASSO into JSBA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14480" indent="-114480">
              <a:buClr>
                <a:srgbClr val="000000"/>
              </a:buClr>
              <a:buFont typeface="Calibri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proved the total soil C storage (overestimated by a factor of 2 in the CMIP5 version, middle plot), and made carbon storage patterns more realistic (top vs bottom plots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14480" indent="-114480">
              <a:buClr>
                <a:srgbClr val="000000"/>
              </a:buClr>
              <a:buFont typeface="Calibri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duced soil C sensitivity to warming (right plot), as there is more carbon in faster than in the slower poo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0BC53A-653A-496B-833D-633D7E2C1F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520" y="128520"/>
            <a:ext cx="8278920" cy="14335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8278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520" y="3949920"/>
            <a:ext cx="8278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C29706-F1A7-4FFB-9698-A17BAD54B4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128520"/>
            <a:ext cx="8278920" cy="14335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22760" y="159984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520" y="394992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22760" y="394992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D9A9B7-3323-4A3B-B5AB-9DE8CCDD0C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520" y="128520"/>
            <a:ext cx="8278920" cy="14335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266544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9520" y="1599840"/>
            <a:ext cx="266544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8880" y="1599840"/>
            <a:ext cx="266544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520" y="3949920"/>
            <a:ext cx="266544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9520" y="3949920"/>
            <a:ext cx="266544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8880" y="3949920"/>
            <a:ext cx="266544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237F8B-AC70-49F8-9369-49ED599A82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7B8BDB-0233-4C14-9F09-11899FD7C61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128520"/>
            <a:ext cx="8278920" cy="14335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380520" y="1599840"/>
            <a:ext cx="827892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F0CD5B-5527-473A-90C5-6D349F08F66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128520"/>
            <a:ext cx="8278920" cy="14335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8278920" cy="44989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6F569F-9A17-47D5-9366-F687E7A33B2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128520"/>
            <a:ext cx="8278920" cy="14335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4039920" cy="44989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22760" y="1599840"/>
            <a:ext cx="4039920" cy="44989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02F32C-5A83-4627-AC5C-3462E84F8D9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128520"/>
            <a:ext cx="8278920" cy="14335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6875E6-BF0D-4B63-B835-D7064642AF1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128520"/>
            <a:ext cx="82789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C580D7-23B2-4CFE-9047-A962E3C896F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128520"/>
            <a:ext cx="8278920" cy="14335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22760" y="1599840"/>
            <a:ext cx="4039920" cy="44989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380520" y="394992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96AC01-D25D-4C83-970F-22F85499B82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520" y="128520"/>
            <a:ext cx="8278920" cy="14335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520" y="1599840"/>
            <a:ext cx="827892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69B91F-B3BB-4AC3-9025-FAE1ECB32B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128520"/>
            <a:ext cx="8278920" cy="14335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4039920" cy="44989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2760" y="159984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22760" y="394992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9DEA11-17FF-4BA3-9C1D-2269F619BF5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128520"/>
            <a:ext cx="8278920" cy="14335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2760" y="159984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80520" y="3949920"/>
            <a:ext cx="8278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14AA73-5E63-4BF4-B75E-C3EA7E37D60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128520"/>
            <a:ext cx="8278920" cy="14335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8278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80520" y="3949920"/>
            <a:ext cx="8278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0366E2-DEFB-433C-B5A2-DE7A2BB451C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128520"/>
            <a:ext cx="8278920" cy="14335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22760" y="159984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94992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22760" y="394992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B448EE-C0F9-4887-AD4D-C9D244302CE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128520"/>
            <a:ext cx="8278920" cy="14335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266544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179520" y="1599840"/>
            <a:ext cx="266544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78880" y="1599840"/>
            <a:ext cx="266544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80520" y="3949920"/>
            <a:ext cx="266544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179520" y="3949920"/>
            <a:ext cx="266544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78880" y="3949920"/>
            <a:ext cx="266544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D2B47B-0646-4398-A8E1-A73A4B14FA3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128520"/>
            <a:ext cx="8278920" cy="14335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8278920" cy="44989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8130E4-9D9A-4267-9D4F-3F87692626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128520"/>
            <a:ext cx="8278920" cy="14335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4039920" cy="44989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22760" y="1599840"/>
            <a:ext cx="4039920" cy="44989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298EE4-5609-43B9-A349-F515EEC0D4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520" y="128520"/>
            <a:ext cx="8278920" cy="14335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B4CCA8-DCD8-4D58-8891-6D3783E7E3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520" y="128520"/>
            <a:ext cx="82789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3C7018-155B-4D2E-9085-EAFF3912D1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128520"/>
            <a:ext cx="8278920" cy="14335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22760" y="1599840"/>
            <a:ext cx="4039920" cy="44989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520" y="394992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AD4B05-FA2F-4ADD-8769-FFC5A4A1E5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520" y="128520"/>
            <a:ext cx="8278920" cy="14335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4039920" cy="44989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22760" y="159984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22760" y="394992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4F6ADA-B475-4928-BD40-7377A11E71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128520"/>
            <a:ext cx="8278920" cy="14335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22760" y="159984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520" y="3949920"/>
            <a:ext cx="8278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0A7417-9DB5-4A50-A260-6698F364C1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318360"/>
            <a:ext cx="9144000" cy="539640"/>
          </a:xfrm>
          <a:prstGeom prst="rect">
            <a:avLst/>
          </a:prstGeom>
          <a:solidFill>
            <a:srgbClr val="edf8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image2.pdf" descr=""/>
          <p:cNvPicPr/>
          <p:nvPr/>
        </p:nvPicPr>
        <p:blipFill>
          <a:blip r:embed="rId2"/>
          <a:stretch/>
        </p:blipFill>
        <p:spPr>
          <a:xfrm>
            <a:off x="7496280" y="6410160"/>
            <a:ext cx="1536480" cy="360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520" y="128520"/>
            <a:ext cx="8278920" cy="14335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520" y="1599840"/>
            <a:ext cx="8278920" cy="44989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4419720" y="6171840"/>
            <a:ext cx="2133360" cy="3682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AE437A-31DE-4EFD-A905-3DE0B1F4C2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6318360"/>
            <a:ext cx="9144000" cy="539640"/>
          </a:xfrm>
          <a:prstGeom prst="rect">
            <a:avLst/>
          </a:prstGeom>
          <a:solidFill>
            <a:srgbClr val="edf8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image1.pdf" descr=""/>
          <p:cNvPicPr/>
          <p:nvPr/>
        </p:nvPicPr>
        <p:blipFill>
          <a:blip r:embed="rId2"/>
          <a:stretch/>
        </p:blipFill>
        <p:spPr>
          <a:xfrm>
            <a:off x="125280" y="6410160"/>
            <a:ext cx="358920" cy="360360"/>
          </a:xfrm>
          <a:prstGeom prst="rect">
            <a:avLst/>
          </a:prstGeom>
          <a:ln w="0">
            <a:noFill/>
          </a:ln>
        </p:spPr>
      </p:pic>
      <p:pic>
        <p:nvPicPr>
          <p:cNvPr id="43" name="image2.pdf" descr=""/>
          <p:cNvPicPr/>
          <p:nvPr/>
        </p:nvPicPr>
        <p:blipFill>
          <a:blip r:embed="rId3"/>
          <a:stretch/>
        </p:blipFill>
        <p:spPr>
          <a:xfrm>
            <a:off x="7496280" y="6410160"/>
            <a:ext cx="1536480" cy="3603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sldNum" idx="2"/>
          </p:nvPr>
        </p:nvSpPr>
        <p:spPr>
          <a:xfrm>
            <a:off x="4419720" y="6171840"/>
            <a:ext cx="2133360" cy="3682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74F334E-4556-4CEC-BA04-9296C44E7E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3358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358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35880" indent="559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35880" indent="1007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35880" indent="145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35880" indent="145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35880" indent="145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pn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5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1879560"/>
            <a:ext cx="9144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31859c"/>
                </a:solidFill>
                <a:latin typeface="Calibri"/>
                <a:ea typeface="Calibri"/>
              </a:rPr>
              <a:t>MPI-ESM 1.2 in CMIP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58960" y="4148280"/>
            <a:ext cx="7378560" cy="22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ohann Jungcla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thias Bittner, Thorsten Mauritsen, Monika Esch, Tatiana Ilyina, Irene Stemler, Helmuth Haak, Luis Kornblueh,  Marco Giorgetta, Karl-Hermann Wieners, Michael Botzet, Wolfgang Mueller, Kameshwar Rao Modali, Christian Reick, Reiner Schnur, Julia Pongratz, Thomas Raddatz, Hauke Schmidt, Claudia Timmreck et al.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573280" y="6411960"/>
            <a:ext cx="7378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MBF-CMIP6 KickOff, July 19,  20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60200" y="33480"/>
            <a:ext cx="882180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31859c"/>
                </a:solidFill>
                <a:latin typeface="Calibri"/>
                <a:ea typeface="Calibri"/>
              </a:rPr>
              <a:t>MPI-ESM1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image21.jpg" descr=""/>
          <p:cNvPicPr/>
          <p:nvPr/>
        </p:nvPicPr>
        <p:blipFill>
          <a:blip r:embed="rId1"/>
          <a:stretch/>
        </p:blipFill>
        <p:spPr>
          <a:xfrm>
            <a:off x="1239840" y="593640"/>
            <a:ext cx="2903400" cy="1763640"/>
          </a:xfrm>
          <a:prstGeom prst="rect">
            <a:avLst/>
          </a:prstGeom>
          <a:ln w="0">
            <a:noFill/>
          </a:ln>
        </p:spPr>
      </p:pic>
      <p:pic>
        <p:nvPicPr>
          <p:cNvPr id="127" name="image22.jpg" descr=""/>
          <p:cNvPicPr/>
          <p:nvPr/>
        </p:nvPicPr>
        <p:blipFill>
          <a:blip r:embed="rId2"/>
          <a:stretch/>
        </p:blipFill>
        <p:spPr>
          <a:xfrm>
            <a:off x="4986360" y="593640"/>
            <a:ext cx="2903400" cy="1763640"/>
          </a:xfrm>
          <a:prstGeom prst="rect">
            <a:avLst/>
          </a:prstGeom>
          <a:ln w="0">
            <a:noFill/>
          </a:ln>
        </p:spPr>
      </p:pic>
      <p:pic>
        <p:nvPicPr>
          <p:cNvPr id="128" name="image23.jpg" descr=""/>
          <p:cNvPicPr/>
          <p:nvPr/>
        </p:nvPicPr>
        <p:blipFill>
          <a:blip r:embed="rId3"/>
          <a:stretch/>
        </p:blipFill>
        <p:spPr>
          <a:xfrm>
            <a:off x="1239840" y="2473200"/>
            <a:ext cx="2903400" cy="1764000"/>
          </a:xfrm>
          <a:prstGeom prst="rect">
            <a:avLst/>
          </a:prstGeom>
          <a:ln w="0">
            <a:noFill/>
          </a:ln>
        </p:spPr>
      </p:pic>
      <p:pic>
        <p:nvPicPr>
          <p:cNvPr id="129" name="image24.png" descr=""/>
          <p:cNvPicPr/>
          <p:nvPr/>
        </p:nvPicPr>
        <p:blipFill>
          <a:blip r:embed="rId4"/>
          <a:stretch/>
        </p:blipFill>
        <p:spPr>
          <a:xfrm>
            <a:off x="5076720" y="2473200"/>
            <a:ext cx="2900520" cy="1764000"/>
          </a:xfrm>
          <a:prstGeom prst="rect">
            <a:avLst/>
          </a:prstGeom>
          <a:ln w="0">
            <a:noFill/>
          </a:ln>
        </p:spPr>
      </p:pic>
      <p:pic>
        <p:nvPicPr>
          <p:cNvPr id="130" name="image25.jpg" descr=""/>
          <p:cNvPicPr/>
          <p:nvPr/>
        </p:nvPicPr>
        <p:blipFill>
          <a:blip r:embed="rId5"/>
          <a:stretch/>
        </p:blipFill>
        <p:spPr>
          <a:xfrm>
            <a:off x="1239840" y="4395960"/>
            <a:ext cx="2903400" cy="1763640"/>
          </a:xfrm>
          <a:prstGeom prst="rect">
            <a:avLst/>
          </a:prstGeom>
          <a:ln w="0">
            <a:noFill/>
          </a:ln>
        </p:spPr>
      </p:pic>
      <p:pic>
        <p:nvPicPr>
          <p:cNvPr id="131" name="image26.jpg" descr=""/>
          <p:cNvPicPr/>
          <p:nvPr/>
        </p:nvPicPr>
        <p:blipFill>
          <a:blip r:embed="rId6"/>
          <a:stretch/>
        </p:blipFill>
        <p:spPr>
          <a:xfrm>
            <a:off x="5075280" y="4395960"/>
            <a:ext cx="2903400" cy="176364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231840" y="1001880"/>
            <a:ext cx="625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38320" y="3179880"/>
            <a:ext cx="447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38320" y="4929120"/>
            <a:ext cx="4852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935360" y="127080"/>
            <a:ext cx="10584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T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998680" y="127080"/>
            <a:ext cx="11710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MM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014640" y="6140520"/>
            <a:ext cx="32497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% of blocking days per seas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60200" y="122400"/>
            <a:ext cx="882180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31859c"/>
                </a:solidFill>
                <a:latin typeface="Calibri"/>
                <a:ea typeface="Calibri"/>
              </a:rPr>
              <a:t>MPI-ESM1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85840" y="544680"/>
            <a:ext cx="8318520" cy="5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88920" bIns="88920" anchor="t">
            <a:spAutoFit/>
          </a:bodyPr>
          <a:p>
            <a:pPr marL="216000" indent="-21600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lution matters: but notorious biases re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8760" y="2355840"/>
            <a:ext cx="8647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R b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88960" y="4405320"/>
            <a:ext cx="902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R b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image2.png" descr=""/>
          <p:cNvPicPr/>
          <p:nvPr/>
        </p:nvPicPr>
        <p:blipFill>
          <a:blip r:embed="rId1"/>
          <a:stretch/>
        </p:blipFill>
        <p:spPr>
          <a:xfrm>
            <a:off x="2281320" y="969840"/>
            <a:ext cx="4579920" cy="3124440"/>
          </a:xfrm>
          <a:prstGeom prst="rect">
            <a:avLst/>
          </a:prstGeom>
          <a:ln w="0">
            <a:noFill/>
          </a:ln>
        </p:spPr>
      </p:pic>
      <p:pic>
        <p:nvPicPr>
          <p:cNvPr id="143" name="image3.png" descr=""/>
          <p:cNvPicPr/>
          <p:nvPr/>
        </p:nvPicPr>
        <p:blipFill>
          <a:blip r:embed="rId2"/>
          <a:srcRect l="0" t="13896" r="0" b="0"/>
          <a:stretch/>
        </p:blipFill>
        <p:spPr>
          <a:xfrm>
            <a:off x="2341440" y="3664080"/>
            <a:ext cx="4579920" cy="265248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2818800" y="6342120"/>
            <a:ext cx="31492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 surface temperature bi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158760" y="198360"/>
            <a:ext cx="882180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31859c"/>
                </a:solidFill>
                <a:latin typeface="Calibri"/>
                <a:ea typeface="Calibri"/>
              </a:rPr>
              <a:t>MPI-ESM1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7440" y="1022400"/>
            <a:ext cx="7416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nd biogeochemistr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87440" y="1484280"/>
            <a:ext cx="5286240" cy="10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marL="171360" indent="-17136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601"/>
              </a:spcBef>
              <a:buClr>
                <a:srgbClr val="800000"/>
              </a:buClr>
              <a:buFont typeface="Wingdings" charset="2"/>
              <a:buChar char="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roved hydrology and soil model based on 5-pool model YAS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image4.png" descr=""/>
          <p:cNvPicPr/>
          <p:nvPr/>
        </p:nvPicPr>
        <p:blipFill>
          <a:blip r:embed="rId1"/>
          <a:stretch/>
        </p:blipFill>
        <p:spPr>
          <a:xfrm>
            <a:off x="5616720" y="1000080"/>
            <a:ext cx="3187440" cy="5229360"/>
          </a:xfrm>
          <a:prstGeom prst="rect">
            <a:avLst/>
          </a:prstGeom>
          <a:ln w="0">
            <a:noFill/>
          </a:ln>
        </p:spPr>
      </p:pic>
      <p:pic>
        <p:nvPicPr>
          <p:cNvPr id="149" name="image5.png" descr=""/>
          <p:cNvPicPr/>
          <p:nvPr/>
        </p:nvPicPr>
        <p:blipFill>
          <a:blip r:embed="rId2"/>
          <a:stretch/>
        </p:blipFill>
        <p:spPr>
          <a:xfrm>
            <a:off x="603360" y="2701800"/>
            <a:ext cx="4060800" cy="273384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840960" y="6370560"/>
            <a:ext cx="206568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oll et al., GBC, 201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982480" y="6134040"/>
            <a:ext cx="25063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an over yrs 1986–2005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94080" y="5429160"/>
            <a:ext cx="4225320" cy="5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TL: CMIP5 version of JSB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SSO: JSBACH with YASSO by Lieski et a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215040" y="787320"/>
            <a:ext cx="1914840" cy="33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otal soil C stor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158760" y="262080"/>
            <a:ext cx="882180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31859c"/>
                </a:solidFill>
                <a:latin typeface="Calibri"/>
                <a:ea typeface="Calibri"/>
              </a:rPr>
              <a:t>MPI-ESM1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60360" y="909720"/>
            <a:ext cx="7416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cean biogeochemistr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60360" y="1752480"/>
            <a:ext cx="7416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Wingdings" charset="2"/>
              <a:buChar char="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king velocity as function of dep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60360" y="1344600"/>
            <a:ext cx="7416720" cy="11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marL="114480" indent="-1144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spcBef>
                <a:spcPts val="601"/>
              </a:spcBef>
              <a:buClr>
                <a:srgbClr val="800000"/>
              </a:buClr>
              <a:buFont typeface="Wingdings" charset="2"/>
              <a:buChar char="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Prognostic nitrogen fix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image7.png" descr=""/>
          <p:cNvPicPr/>
          <p:nvPr/>
        </p:nvPicPr>
        <p:blipFill>
          <a:blip r:embed="rId1"/>
          <a:srcRect l="0" t="0" r="52874" b="0"/>
          <a:stretch/>
        </p:blipFill>
        <p:spPr>
          <a:xfrm>
            <a:off x="158760" y="2598840"/>
            <a:ext cx="3997440" cy="221940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360360" y="2482920"/>
            <a:ext cx="1486080" cy="36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const wp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42960" y="2359080"/>
            <a:ext cx="74167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ganic sedi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image8.png" descr=""/>
          <p:cNvPicPr/>
          <p:nvPr/>
        </p:nvPicPr>
        <p:blipFill>
          <a:blip r:embed="rId2"/>
          <a:stretch/>
        </p:blipFill>
        <p:spPr>
          <a:xfrm>
            <a:off x="4591080" y="2879640"/>
            <a:ext cx="3968640" cy="2773440"/>
          </a:xfrm>
          <a:prstGeom prst="rect">
            <a:avLst/>
          </a:prstGeom>
          <a:ln w="0">
            <a:noFill/>
          </a:ln>
        </p:spPr>
      </p:pic>
      <p:pic>
        <p:nvPicPr>
          <p:cNvPr id="162" name="image7.tif" descr=""/>
          <p:cNvPicPr/>
          <p:nvPr/>
        </p:nvPicPr>
        <p:blipFill>
          <a:blip r:embed="rId3"/>
          <a:srcRect l="51770" t="9927" r="1134" b="9126"/>
          <a:stretch/>
        </p:blipFill>
        <p:spPr>
          <a:xfrm>
            <a:off x="162000" y="4641840"/>
            <a:ext cx="3994200" cy="179712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351000" y="4387680"/>
            <a:ext cx="3238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wpoc(z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asted-image.png" descr=""/>
          <p:cNvPicPr/>
          <p:nvPr/>
        </p:nvPicPr>
        <p:blipFill>
          <a:blip r:embed="rId1"/>
          <a:srcRect l="0" t="0" r="3838" b="0"/>
          <a:stretch/>
        </p:blipFill>
        <p:spPr>
          <a:xfrm>
            <a:off x="241200" y="3240"/>
            <a:ext cx="8353440" cy="6291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60200" y="122400"/>
            <a:ext cx="882180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31859c"/>
                </a:solidFill>
                <a:latin typeface="Calibri"/>
                <a:ea typeface="Calibri"/>
              </a:rPr>
              <a:t>MPI-ESM1.2 adaptation for CMIP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85840" y="646200"/>
            <a:ext cx="8318520" cy="55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88920" bIns="88920" anchor="t">
            <a:spAutoFit/>
          </a:bodyPr>
          <a:p>
            <a:pPr marL="231840" indent="-23184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istorical forc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CMIP6 forcing data sets are available (although some not in their final version), some are still pending (ozon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lementation in models (not only MPI-ESM) revealed issues (e.g. Tropopause boundary for stratospheric aerosol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PI-ESM1.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aptation and testing of CMIP6 is underw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delays due to late delivery and technical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lementation of CMIP6 output variables and diagno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rget: August 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158760" y="147600"/>
            <a:ext cx="882180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31859c"/>
                </a:solidFill>
                <a:latin typeface="Calibri"/>
                <a:ea typeface="Calibri"/>
              </a:rPr>
              <a:t>MIPs @ MPI-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12640" y="671400"/>
            <a:ext cx="7948800" cy="61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marL="285840" indent="-285840">
              <a:lnSpc>
                <a:spcPts val="1899"/>
              </a:lnSpc>
              <a:spcBef>
                <a:spcPts val="601"/>
              </a:spcBef>
              <a:buClr>
                <a:srgbClr val="ff26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2600"/>
                </a:solidFill>
                <a:latin typeface="Arial"/>
              </a:rPr>
              <a:t>DE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177480">
              <a:lnSpc>
                <a:spcPts val="1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2600"/>
                </a:solidFill>
                <a:latin typeface="Arial"/>
                <a:ea typeface="Arial"/>
              </a:rPr>
              <a:t>piControl, 1%CO2increase/4xCO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899"/>
              </a:lnSpc>
              <a:spcBef>
                <a:spcPts val="601"/>
              </a:spcBef>
              <a:buClr>
                <a:srgbClr val="ff26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2600"/>
                </a:solidFill>
                <a:latin typeface="Arial"/>
              </a:rPr>
              <a:t>Historicals </a:t>
            </a:r>
            <a:r>
              <a:rPr b="0" lang="en-US" sz="1800" spc="-1" strike="noStrike">
                <a:solidFill>
                  <a:srgbClr val="ff2600"/>
                </a:solidFill>
                <a:latin typeface="Arial"/>
              </a:rPr>
              <a:t>(with DKRZ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899"/>
              </a:lnSpc>
              <a:spcBef>
                <a:spcPts val="601"/>
              </a:spcBef>
              <a:buClr>
                <a:srgbClr val="ff26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2600"/>
                </a:solidFill>
                <a:latin typeface="Arial"/>
              </a:rPr>
              <a:t>ScenarioMIP </a:t>
            </a:r>
            <a:r>
              <a:rPr b="0" lang="en-US" sz="1800" spc="-1" strike="noStrike">
                <a:solidFill>
                  <a:srgbClr val="ff2600"/>
                </a:solidFill>
                <a:latin typeface="Arial"/>
              </a:rPr>
              <a:t>(with DKRZ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899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CPP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cadal climate predi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899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HighResMiP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IP/CPLD up to T255/TP6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899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MIP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st Millennium, LGM, MidHolocene (other PMIP simulations by AW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899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FAFMIP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ealised experiments driven by prescribed fluxes (in cooperation with IfM Hambur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177480">
              <a:lnSpc>
                <a:spcPts val="1899"/>
              </a:lnSpc>
              <a:spcBef>
                <a:spcPts val="601"/>
              </a:spcBef>
              <a:buClr>
                <a:srgbClr val="000000"/>
              </a:buClr>
              <a:buSzPct val="10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IMIP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a-ice (diagnostic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177480">
              <a:lnSpc>
                <a:spcPts val="1899"/>
              </a:lnSpc>
              <a:spcBef>
                <a:spcPts val="601"/>
              </a:spcBef>
              <a:buClr>
                <a:srgbClr val="000000"/>
              </a:buClr>
              <a:buSzPct val="10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SMIP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upled ice sheet mod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177480">
              <a:lnSpc>
                <a:spcPts val="1899"/>
              </a:lnSpc>
              <a:spcBef>
                <a:spcPts val="601"/>
              </a:spcBef>
              <a:buClr>
                <a:srgbClr val="000000"/>
              </a:buClr>
              <a:buSzPct val="10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4MIP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arbon/nitrogen cy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177480">
              <a:lnSpc>
                <a:spcPts val="1899"/>
              </a:lnSpc>
              <a:spcBef>
                <a:spcPts val="601"/>
              </a:spcBef>
              <a:buClr>
                <a:srgbClr val="000000"/>
              </a:buClr>
              <a:buSzPct val="10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olMIP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dealised volcanic perturb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177480">
              <a:lnSpc>
                <a:spcPts val="1899"/>
              </a:lnSpc>
              <a:spcBef>
                <a:spcPts val="601"/>
              </a:spcBef>
              <a:buClr>
                <a:srgbClr val="000000"/>
              </a:buClr>
              <a:buSzPct val="10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UMIP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mpacts of land Use/land co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177480">
              <a:lnSpc>
                <a:spcPts val="1899"/>
              </a:lnSpc>
              <a:spcBef>
                <a:spcPts val="601"/>
              </a:spcBef>
              <a:buClr>
                <a:srgbClr val="000000"/>
              </a:buClr>
              <a:buSzPct val="10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S3MIP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d surface mod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177480">
              <a:lnSpc>
                <a:spcPts val="1899"/>
              </a:lnSpc>
              <a:spcBef>
                <a:spcPts val="601"/>
              </a:spcBef>
              <a:buClr>
                <a:srgbClr val="000000"/>
              </a:buClr>
              <a:buSzPct val="10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eoMIP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Geoengine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177480">
              <a:lnSpc>
                <a:spcPts val="1899"/>
              </a:lnSpc>
              <a:spcBef>
                <a:spcPts val="601"/>
              </a:spcBef>
              <a:buClr>
                <a:srgbClr val="000000"/>
              </a:buClr>
              <a:buSzPct val="10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FMIP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Radiative For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>
              <a:lnSpc>
                <a:spcPts val="1899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>
              <a:lnSpc>
                <a:spcPts val="1899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338040" y="549360"/>
            <a:ext cx="7723440" cy="563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lv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MIP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              Project(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Historical:         DKRZ-BMBF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SCENARIOS:   DKRZ-BMBF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DCPP:              BMBF MiKli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C4MIP:             EU H2020 CRESCEND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FAFMIP:           DFG SPP Sea Level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GeoMIP:           DFG SPP1689, CELAR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ighResMIP:    H2020 PRIMAVER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ISMIP6: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         BMBF-PalMo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LS3MIP: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         EU H2020 CRESCEND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LUMIP: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         EU H2020 CRESCEND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PMIP:               BMBF PalMod / JPI: PACMED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RFMIP: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         EU FP7 BACCHU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VolMIP:            BMBF MiKlip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60200" y="109440"/>
            <a:ext cx="882180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31859c"/>
                </a:solidFill>
                <a:latin typeface="Calibri"/>
                <a:ea typeface="Calibri"/>
              </a:rPr>
              <a:t>MIP-related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301680" y="789120"/>
            <a:ext cx="8539200" cy="55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ment of MPI-ESM1.2 for CMIP6 has been finalized, some technical issues (forcing, diagnostics) still pen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PI-ESM1.2 -HR (ECHAM T127/ MPIOM TP04) shows considerable improvements over previous CMIP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PI-ESM1.2-HR will be used for experiments in BMBF “DICAD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low-resolution version (MPI-ESM-1.2-LR, ECHAM T63/ MPIOM GR1.5) will be the “workhorse” for many MIPs and a testbed for further developments (e.g. nitrogen cyc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ture developments will focus on finalising MPI-ESM-2 (ICON-bas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58760" y="160200"/>
            <a:ext cx="882180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31859c"/>
                </a:solidFill>
                <a:latin typeface="Calibri"/>
                <a:ea typeface="Calibri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asted-image.png" descr=""/>
          <p:cNvPicPr/>
          <p:nvPr/>
        </p:nvPicPr>
        <p:blipFill>
          <a:blip r:embed="rId1"/>
          <a:stretch/>
        </p:blipFill>
        <p:spPr>
          <a:xfrm>
            <a:off x="168120" y="63360"/>
            <a:ext cx="8269560" cy="631188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 rot="900000">
            <a:off x="1882440" y="2530440"/>
            <a:ext cx="3416400" cy="1692360"/>
          </a:xfrm>
          <a:prstGeom prst="ellipse">
            <a:avLst/>
          </a:prstGeom>
          <a:noFill/>
          <a:ln w="101520">
            <a:solidFill>
              <a:srgbClr val="ff2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rot="900000">
            <a:off x="3132360" y="3252240"/>
            <a:ext cx="1780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2600"/>
                </a:solidFill>
                <a:latin typeface="Arial"/>
              </a:rPr>
              <a:t>MPI-ESM1.2 H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1920" y="609480"/>
            <a:ext cx="5037120" cy="4837320"/>
          </a:xfrm>
          <a:prstGeom prst="ellipse">
            <a:avLst/>
          </a:prstGeom>
          <a:noFill/>
          <a:ln w="7632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14640" y="5513400"/>
            <a:ext cx="1756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93"/>
                </a:solidFill>
                <a:latin typeface="Arial"/>
              </a:rPr>
              <a:t>MPI-ESM1.2 L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58760" y="198360"/>
            <a:ext cx="882180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31859c"/>
                </a:solidFill>
                <a:latin typeface="Calibri"/>
                <a:ea typeface="Calibri"/>
              </a:rPr>
              <a:t>MPI-ESM1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63440" y="3814920"/>
            <a:ext cx="49197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PI-ESM1.2 resolu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450720" y="4586400"/>
          <a:ext cx="6464520" cy="1188720"/>
        </p:xfrm>
        <a:graphic>
          <a:graphicData uri="http://schemas.openxmlformats.org/drawingml/2006/table">
            <a:tbl>
              <a:tblPr/>
              <a:tblGrid>
                <a:gridCol w="1468800"/>
                <a:gridCol w="1117800"/>
                <a:gridCol w="1292400"/>
                <a:gridCol w="1292760"/>
                <a:gridCol w="1292760"/>
              </a:tblGrid>
              <a:tr h="396720">
                <a:tc>
                  <a:txBody>
                    <a:bodyPr lIns="45720" rIns="45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5720" rIns="4572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5720" rIns="4572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5720" rIns="4572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5720" rIns="4572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45720" rIns="4572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mosphe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5720" rIns="4572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1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5720" rIns="4572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6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5720" rIns="4572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5720" rIns="4572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2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"/>
                      <a:stretch/>
                    </a:blipFill>
                  </a:tcPr>
                </a:tc>
              </a:tr>
              <a:tr h="701640">
                <a:tc>
                  <a:txBody>
                    <a:bodyPr lIns="45720" rIns="4572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e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5720" rIns="4572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P0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5720" rIns="4572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5720" rIns="4572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5720" rIns="4572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P04/TP6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122400" y="1558800"/>
            <a:ext cx="4098600" cy="21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MPI-ESM1.2 code development has been frozen on 19 June 20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MPI-ESM1.2-LR officially released 15 January 20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HR in prepa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image3.png" descr=""/>
          <p:cNvPicPr/>
          <p:nvPr/>
        </p:nvPicPr>
        <p:blipFill>
          <a:blip r:embed="rId2"/>
          <a:stretch/>
        </p:blipFill>
        <p:spPr>
          <a:xfrm>
            <a:off x="4519440" y="1087560"/>
            <a:ext cx="4588200" cy="25365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5192640" y="4570560"/>
            <a:ext cx="3764160" cy="1269720"/>
          </a:xfrm>
          <a:prstGeom prst="roundRect">
            <a:avLst>
              <a:gd name="adj" fmla="val 15000"/>
            </a:avLst>
          </a:prstGeom>
          <a:noFill/>
          <a:ln w="507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987560" y="4579920"/>
            <a:ext cx="2846520" cy="1270080"/>
          </a:xfrm>
          <a:prstGeom prst="roundRect">
            <a:avLst>
              <a:gd name="adj" fmla="val 15000"/>
            </a:avLst>
          </a:prstGeom>
          <a:noFill/>
          <a:ln w="63360">
            <a:solidFill>
              <a:srgbClr val="ff2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398560" y="4253040"/>
            <a:ext cx="34268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sions not “officially” suppor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60200" y="122400"/>
            <a:ext cx="882180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31859c"/>
                </a:solidFill>
                <a:latin typeface="Calibri"/>
                <a:ea typeface="Calibri"/>
              </a:rPr>
              <a:t>MPI-ESM1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85840" y="646200"/>
            <a:ext cx="8318520" cy="522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88920" bIns="88920" anchor="t">
            <a:spAutoFit/>
          </a:bodyPr>
          <a:p>
            <a:pPr marL="250920" indent="-25092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CHAM6.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te-Carlo independent column approximation (McICA) radiation scheme [option: spectral sampling in time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g fixes for energy conservation in atmospheric phy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g fix for cloud cover sche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ated stratocumulus parameteris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SBACH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d hydrology and soil model based on 5-pool model YAS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MOC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spcBef>
                <a:spcPts val="601"/>
              </a:spcBef>
              <a:buClr>
                <a:srgbClr val="800000"/>
              </a:buClr>
              <a:buFont typeface="Wingdings" charset="2"/>
              <a:buChar char="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inking velocity as function of depth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spcBef>
                <a:spcPts val="601"/>
              </a:spcBef>
              <a:buClr>
                <a:srgbClr val="800000"/>
              </a:buClr>
              <a:buFont typeface="Wingdings" charset="2"/>
              <a:buChar char="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rognostic nitrogen fixers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58760" y="198360"/>
            <a:ext cx="882180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31859c"/>
                </a:solidFill>
                <a:latin typeface="Calibri"/>
                <a:ea typeface="Calibri"/>
              </a:rPr>
              <a:t>MPI-ESM1.2 Current stat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60360" y="868320"/>
            <a:ext cx="86202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60360" y="808200"/>
            <a:ext cx="8620200" cy="51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R (ECHAM6.3 T127L95 MPIOM1.65 TP04/L40)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ned set-up; CMIP5-type D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thou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ynVe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urly coup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ll be the base model for MiKlip-II forecast system, DCPPMIP, BMBF CMIP6 project with DKR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: 18yrs/day on 108 n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58760" y="198360"/>
            <a:ext cx="882180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31859c"/>
                </a:solidFill>
                <a:latin typeface="Calibri"/>
                <a:ea typeface="Calibri"/>
              </a:rPr>
              <a:t>MPI-ESM1.2 Current stat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0360" y="868320"/>
            <a:ext cx="86202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60360" y="860400"/>
            <a:ext cx="8620200" cy="61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R (ECHAM6.3 T63L47 MPIOM1.65 GR15/L40)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ned set-up; CMIP5-type DECK finali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s by defaul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ynVe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ily coup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ll be used for many MIP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ended version with interactive carbon cycle and dynamically active OBGC exist, interactive nitrogen cycle and SPITFIRE fire module in prepa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: 70yrs/day on 32 n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58760" y="198360"/>
            <a:ext cx="882180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31859c"/>
                </a:solidFill>
                <a:latin typeface="Calibri"/>
                <a:ea typeface="Calibri"/>
              </a:rPr>
              <a:t>MPI-ESM1.2 Current stat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60360" y="868320"/>
            <a:ext cx="86202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868320"/>
            <a:ext cx="8620200" cy="56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R (ECHAM6.3 T255L95 MPIOM1.65 TP04/L40)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uning phase, no DECK plan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urly coup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ll be the base model for PRIMAVERA and HighResM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ension to PRIMAVERA “FRONTIER” version with eddy-resolving TP6M oc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: 6yrs/day on 256 n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60200" y="122400"/>
            <a:ext cx="882180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31859c"/>
                </a:solidFill>
                <a:latin typeface="Calibri"/>
                <a:ea typeface="Calibri"/>
              </a:rPr>
              <a:t>MPI-ESM1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5840" y="646200"/>
            <a:ext cx="8318520" cy="5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88920" bIns="88920" anchor="t">
            <a:spAutoFit/>
          </a:bodyPr>
          <a:p>
            <a:pPr marL="216000" indent="-21600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om ECHAM5 to ECHAM6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versuch17_allVar_ANN.png" descr=""/>
          <p:cNvPicPr/>
          <p:nvPr/>
        </p:nvPicPr>
        <p:blipFill>
          <a:blip r:embed="rId1"/>
          <a:stretch/>
        </p:blipFill>
        <p:spPr>
          <a:xfrm>
            <a:off x="1971720" y="-716040"/>
            <a:ext cx="6753240" cy="873936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398520" y="4586400"/>
            <a:ext cx="31096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: Glob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H: Northern Hemisp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: Southern Hemisp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: Trop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195800" y="4700520"/>
            <a:ext cx="7506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ob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60200" y="122400"/>
            <a:ext cx="882180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31859c"/>
                </a:solidFill>
                <a:latin typeface="Calibri"/>
                <a:ea typeface="Calibri"/>
              </a:rPr>
              <a:t>MPI-ESM1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85840" y="646200"/>
            <a:ext cx="8318520" cy="5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88920" bIns="88920" anchor="t">
            <a:spAutoFit/>
          </a:bodyPr>
          <a:p>
            <a:pPr marL="216000" indent="-21600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lution matters: HR vs. L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image18.jpg" descr=""/>
          <p:cNvPicPr/>
          <p:nvPr/>
        </p:nvPicPr>
        <p:blipFill>
          <a:blip r:embed="rId1"/>
          <a:stretch/>
        </p:blipFill>
        <p:spPr>
          <a:xfrm>
            <a:off x="1917720" y="1166760"/>
            <a:ext cx="5489640" cy="467532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2243160" y="5996160"/>
            <a:ext cx="44020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riance of geopotential height at 500hP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01200" y="1677960"/>
            <a:ext cx="13237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A Interi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94640" y="3252960"/>
            <a:ext cx="8647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R b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93920" y="4784760"/>
            <a:ext cx="902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R b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