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w soil module YASSO has 5 soil C pools calibrated on extensive set of litter decomposition experi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sion of YASSO into JSB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d the total soil C storage (overestimated by a factor of 2 in the CMIP5 version, middle plot), and made carbon storage patterns more realistic (top vs bottom plots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14480" indent="-114480">
              <a:buClr>
                <a:srgbClr val="000000"/>
              </a:buClr>
              <a:buFont typeface="Calibri"/>
              <a:buAutoNum type="arabicParenR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d soil C sensitivity to warming (right plot), as there is more carbon in faster than in the slower poo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14768-D458-457B-8F1F-BD4EEA6393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8ABCF-1FB0-4E8C-9E70-5CB9ADB7E5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62D5A-0576-402C-8768-A90ACA948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F903-3A08-43E2-A818-D5EF82E4C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3D90-E7AB-4198-A010-02E3F1CA15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FDE90-2E1C-42A7-B11C-3B7C574ADC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EE929-B827-4DC8-800E-82A19FC3D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78F5C-48B1-4707-A3DD-0598AE2E43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442A-5514-4BC5-B848-47B8DB9FB7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71B48-A849-4716-BC27-13A0298BAA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754E-F664-4001-95B5-296EED744D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1C59-5973-4208-8A24-8B600114A0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5D05-C11B-4962-BFB5-C17E7B00AC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9A3B-5517-45F6-8FF5-D2E7230E74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43FC-F075-4FF9-BDA8-792A62E09D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A18D9-EB48-4D10-A046-F1082EE6C2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7952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8880" y="159984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7952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8880" y="3949920"/>
            <a:ext cx="266544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FD178-A9D6-4954-9A65-9C605BF6C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B481-D113-4537-BC22-445B9CF85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DA950-9D82-408D-AD79-53ACA6AA2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C1AF8-A5A2-4DFB-BD4E-9835CB016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8520"/>
            <a:ext cx="8278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3A2AE-D0BC-4CDE-9F5C-29C2B26DC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3123-6A83-4FA6-BCF8-ECC39401C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2760" y="394992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AD5F-8E49-4A71-9D0F-C7FAAE4D2A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2760" y="1599840"/>
            <a:ext cx="4039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3949920"/>
            <a:ext cx="8278920" cy="214596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C38E-7A8A-4D9B-BFA8-E1A355A66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image2.pdf" descr=""/>
          <p:cNvPicPr/>
          <p:nvPr/>
        </p:nvPicPr>
        <p:blipFill>
          <a:blip r:embed="rId2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128520"/>
            <a:ext cx="8278920" cy="14335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520" y="1599840"/>
            <a:ext cx="8278920" cy="4498920"/>
          </a:xfrm>
          <a:prstGeom prst="rect">
            <a:avLst/>
          </a:prstGeom>
          <a:noFill/>
          <a:ln w="0">
            <a:noFill/>
          </a:ln>
        </p:spPr>
        <p:txBody>
          <a:bodyPr lIns="46800" rIns="468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DC4B0-B6A2-42A1-B62F-771A9AB6F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edf8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mage1.pdf" descr=""/>
          <p:cNvPicPr/>
          <p:nvPr/>
        </p:nvPicPr>
        <p:blipFill>
          <a:blip r:embed="rId2"/>
          <a:stretch/>
        </p:blipFill>
        <p:spPr>
          <a:xfrm>
            <a:off x="125280" y="6410160"/>
            <a:ext cx="358920" cy="360360"/>
          </a:xfrm>
          <a:prstGeom prst="rect">
            <a:avLst/>
          </a:prstGeom>
          <a:ln w="0">
            <a:noFill/>
          </a:ln>
        </p:spPr>
      </p:pic>
      <p:pic>
        <p:nvPicPr>
          <p:cNvPr id="43" name="image2.pdf" descr=""/>
          <p:cNvPicPr/>
          <p:nvPr/>
        </p:nvPicPr>
        <p:blipFill>
          <a:blip r:embed="rId3"/>
          <a:stretch/>
        </p:blipFill>
        <p:spPr>
          <a:xfrm>
            <a:off x="7496280" y="6410160"/>
            <a:ext cx="1536480" cy="360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sldNum" idx="2"/>
          </p:nvPr>
        </p:nvSpPr>
        <p:spPr>
          <a:xfrm>
            <a:off x="4419720" y="6171840"/>
            <a:ext cx="2133360" cy="368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465F9E-6703-4F62-81FD-BBFE47AB4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35880" indent="55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35880" indent="1007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35880" indent="1455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7956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31859c"/>
                </a:solidFill>
                <a:latin typeface="Calibri"/>
                <a:ea typeface="Calibri"/>
              </a:rPr>
              <a:t>MPI-ESM 1.2 in CMIP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58960" y="4148280"/>
            <a:ext cx="737856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hann Jungcl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thias Bittner, Thorsten Mauritsen, Monika Esch, Tatiana Ilyina, Irene Stemler, Helmuth Haak, Luis Kornblueh,  Marco Giorgetta, Karl-Hermann Wieners, Michael Botzet, Wolfgang Mueller, Kameshwar Rao Modali, Christian Reick, Reiner Schnur, Julia Pongratz, Thomas Raddatz, Hauke Schmidt, Claudia Timmreck et al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73280" y="6411960"/>
            <a:ext cx="7378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MBF-CMIP6 KickOff, July 19, 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60200" y="334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21.jpg" descr=""/>
          <p:cNvPicPr/>
          <p:nvPr/>
        </p:nvPicPr>
        <p:blipFill>
          <a:blip r:embed="rId1"/>
          <a:stretch/>
        </p:blipFill>
        <p:spPr>
          <a:xfrm>
            <a:off x="123984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7" name="image22.jpg" descr=""/>
          <p:cNvPicPr/>
          <p:nvPr/>
        </p:nvPicPr>
        <p:blipFill>
          <a:blip r:embed="rId2"/>
          <a:stretch/>
        </p:blipFill>
        <p:spPr>
          <a:xfrm>
            <a:off x="4986360" y="59364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28" name="image23.jpg" descr=""/>
          <p:cNvPicPr/>
          <p:nvPr/>
        </p:nvPicPr>
        <p:blipFill>
          <a:blip r:embed="rId3"/>
          <a:stretch/>
        </p:blipFill>
        <p:spPr>
          <a:xfrm>
            <a:off x="1239840" y="2473200"/>
            <a:ext cx="2903400" cy="1764000"/>
          </a:xfrm>
          <a:prstGeom prst="rect">
            <a:avLst/>
          </a:prstGeom>
          <a:ln w="0">
            <a:noFill/>
          </a:ln>
        </p:spPr>
      </p:pic>
      <p:pic>
        <p:nvPicPr>
          <p:cNvPr id="129" name="image24.png" descr=""/>
          <p:cNvPicPr/>
          <p:nvPr/>
        </p:nvPicPr>
        <p:blipFill>
          <a:blip r:embed="rId4"/>
          <a:stretch/>
        </p:blipFill>
        <p:spPr>
          <a:xfrm>
            <a:off x="5076720" y="2473200"/>
            <a:ext cx="2900520" cy="1764000"/>
          </a:xfrm>
          <a:prstGeom prst="rect">
            <a:avLst/>
          </a:prstGeom>
          <a:ln w="0">
            <a:noFill/>
          </a:ln>
        </p:spPr>
      </p:pic>
      <p:pic>
        <p:nvPicPr>
          <p:cNvPr id="130" name="image25.jpg" descr=""/>
          <p:cNvPicPr/>
          <p:nvPr/>
        </p:nvPicPr>
        <p:blipFill>
          <a:blip r:embed="rId5"/>
          <a:stretch/>
        </p:blipFill>
        <p:spPr>
          <a:xfrm>
            <a:off x="1239840" y="4395960"/>
            <a:ext cx="2903400" cy="1763640"/>
          </a:xfrm>
          <a:prstGeom prst="rect">
            <a:avLst/>
          </a:prstGeom>
          <a:ln w="0">
            <a:noFill/>
          </a:ln>
        </p:spPr>
      </p:pic>
      <p:pic>
        <p:nvPicPr>
          <p:cNvPr id="131" name="image26.jpg" descr=""/>
          <p:cNvPicPr/>
          <p:nvPr/>
        </p:nvPicPr>
        <p:blipFill>
          <a:blip r:embed="rId6"/>
          <a:stretch/>
        </p:blipFill>
        <p:spPr>
          <a:xfrm>
            <a:off x="5075280" y="4395960"/>
            <a:ext cx="2903400" cy="1763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231840" y="1001880"/>
            <a:ext cx="62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8320" y="3179880"/>
            <a:ext cx="44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38320" y="4929120"/>
            <a:ext cx="485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35360" y="127080"/>
            <a:ext cx="1058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998680" y="127080"/>
            <a:ext cx="1171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014640" y="6140520"/>
            <a:ext cx="324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blocking days per seas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5840" y="54468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but notorious biases re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760" y="235584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8960" y="440532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2.png" descr=""/>
          <p:cNvPicPr/>
          <p:nvPr/>
        </p:nvPicPr>
        <p:blipFill>
          <a:blip r:embed="rId1"/>
          <a:stretch/>
        </p:blipFill>
        <p:spPr>
          <a:xfrm>
            <a:off x="2281320" y="969840"/>
            <a:ext cx="4579920" cy="3124440"/>
          </a:xfrm>
          <a:prstGeom prst="rect">
            <a:avLst/>
          </a:prstGeom>
          <a:ln w="0">
            <a:noFill/>
          </a:ln>
        </p:spPr>
      </p:pic>
      <p:pic>
        <p:nvPicPr>
          <p:cNvPr id="143" name="image3.png" descr=""/>
          <p:cNvPicPr/>
          <p:nvPr/>
        </p:nvPicPr>
        <p:blipFill>
          <a:blip r:embed="rId2"/>
          <a:srcRect l="0" t="13896" r="0" b="0"/>
          <a:stretch/>
        </p:blipFill>
        <p:spPr>
          <a:xfrm>
            <a:off x="2341440" y="3664080"/>
            <a:ext cx="4579920" cy="265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818800" y="6342120"/>
            <a:ext cx="314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 surface temperature bi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440" y="102240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440" y="1484280"/>
            <a:ext cx="5286240" cy="10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71360" indent="-17136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image4.png" descr=""/>
          <p:cNvPicPr/>
          <p:nvPr/>
        </p:nvPicPr>
        <p:blipFill>
          <a:blip r:embed="rId1"/>
          <a:stretch/>
        </p:blipFill>
        <p:spPr>
          <a:xfrm>
            <a:off x="5616720" y="1000080"/>
            <a:ext cx="3187440" cy="5229360"/>
          </a:xfrm>
          <a:prstGeom prst="rect">
            <a:avLst/>
          </a:prstGeom>
          <a:ln w="0">
            <a:noFill/>
          </a:ln>
        </p:spPr>
      </p:pic>
      <p:pic>
        <p:nvPicPr>
          <p:cNvPr id="149" name="image5.png" descr=""/>
          <p:cNvPicPr/>
          <p:nvPr/>
        </p:nvPicPr>
        <p:blipFill>
          <a:blip r:embed="rId2"/>
          <a:stretch/>
        </p:blipFill>
        <p:spPr>
          <a:xfrm>
            <a:off x="603360" y="2701800"/>
            <a:ext cx="4060800" cy="2733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0960" y="6370560"/>
            <a:ext cx="206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ll et al., GBC,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82480" y="6134040"/>
            <a:ext cx="25063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an over yrs 1986–200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080" y="5429160"/>
            <a:ext cx="422532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TL: CMIP5 version of JSB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SSO: JSBACH with YASSO by Lieski et 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15040" y="787320"/>
            <a:ext cx="1914840" cy="33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soil C sto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58760" y="26208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0360" y="90972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ean biogeochemi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60360" y="1752480"/>
            <a:ext cx="7416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60360" y="1344600"/>
            <a:ext cx="74167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-11448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Prognostic nitrogen fix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7.png" descr=""/>
          <p:cNvPicPr/>
          <p:nvPr/>
        </p:nvPicPr>
        <p:blipFill>
          <a:blip r:embed="rId1"/>
          <a:srcRect l="0" t="0" r="52874" b="0"/>
          <a:stretch/>
        </p:blipFill>
        <p:spPr>
          <a:xfrm>
            <a:off x="158760" y="2598840"/>
            <a:ext cx="3997440" cy="22194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2482920"/>
            <a:ext cx="14860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 wp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2960" y="2359080"/>
            <a:ext cx="7416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ganic sedi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age8.png" descr=""/>
          <p:cNvPicPr/>
          <p:nvPr/>
        </p:nvPicPr>
        <p:blipFill>
          <a:blip r:embed="rId2"/>
          <a:stretch/>
        </p:blipFill>
        <p:spPr>
          <a:xfrm>
            <a:off x="4591080" y="2879640"/>
            <a:ext cx="3968640" cy="2773440"/>
          </a:xfrm>
          <a:prstGeom prst="rect">
            <a:avLst/>
          </a:prstGeom>
          <a:ln w="0">
            <a:noFill/>
          </a:ln>
        </p:spPr>
      </p:pic>
      <p:pic>
        <p:nvPicPr>
          <p:cNvPr id="162" name="image7.tif" descr=""/>
          <p:cNvPicPr/>
          <p:nvPr/>
        </p:nvPicPr>
        <p:blipFill>
          <a:blip r:embed="rId3"/>
          <a:srcRect l="51770" t="9927" r="1134" b="9126"/>
          <a:stretch/>
        </p:blipFill>
        <p:spPr>
          <a:xfrm>
            <a:off x="162000" y="4641840"/>
            <a:ext cx="3994200" cy="17971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51000" y="4387680"/>
            <a:ext cx="323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poc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asted-image.png" descr=""/>
          <p:cNvPicPr/>
          <p:nvPr/>
        </p:nvPicPr>
        <p:blipFill>
          <a:blip r:embed="rId1"/>
          <a:srcRect l="0" t="0" r="3838" b="0"/>
          <a:stretch/>
        </p:blipFill>
        <p:spPr>
          <a:xfrm>
            <a:off x="241200" y="3240"/>
            <a:ext cx="8353440" cy="62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adaptation for CMIP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5840" y="646200"/>
            <a:ext cx="83185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torical forc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MIP6 forcing data sets are available (although some not in their final version), some are still pending (oz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in models (not only MPI-ESM) revealed issues (e.g. Tropopause boundary for stratospheric aeros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PI-ESM1.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 and testing of CMIP6 i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delays due to late delivery and techn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of CMIP6 output variables and diagno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: August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58760" y="1476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s @ MPI-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2640" y="671400"/>
            <a:ext cx="79488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D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2600"/>
                </a:solidFill>
                <a:latin typeface="Arial"/>
                <a:ea typeface="Arial"/>
              </a:rPr>
              <a:t>piControl, 1%CO2increase/4x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Historicals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ff26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ScenarioMIP </a:t>
            </a:r>
            <a:r>
              <a:rPr b="0" lang="en-US" sz="1800" spc="-1" strike="noStrike">
                <a:solidFill>
                  <a:srgbClr val="ff2600"/>
                </a:solidFill>
                <a:latin typeface="Arial"/>
              </a:rPr>
              <a:t>(with DKR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CP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adal climate predi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ighRe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IP/CPLD up to T255/TP6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 Millennium, LGM, MidHolocene (other PMIP simulations by AW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AF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alised experiments driven by prescribed fluxes (in cooperation with IfM Hambur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a-ice (diagnos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pled ice sheet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4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bon/nitrogen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ol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dealised volcanic perturb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mpacts of land Use/lan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d surface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eo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03040" indent="-177480">
              <a:lnSpc>
                <a:spcPts val="1899"/>
              </a:lnSpc>
              <a:spcBef>
                <a:spcPts val="601"/>
              </a:spcBef>
              <a:buClr>
                <a:srgbClr val="000000"/>
              </a:buClr>
              <a:buSzPct val="10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FMIP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diative For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>
              <a:lnSpc>
                <a:spcPts val="18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38040" y="549360"/>
            <a:ext cx="7723440" cy="56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MIP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Project(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Historical:      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CENARIOS:   DKRZ-BMB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CPP:              BMBF MiKl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4MIP:   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FAFMIP:           DFG SPP Sea Lev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GeoMIP:           DFG SPP1689, CELA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ResMIP:    H2020 PRIMAV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SMIP6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BMBF-PalM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S3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LU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H2020 CRESCEN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MIP:               BMBF PalMod / JPI: PACMED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RFMIP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EU FP7 BACCH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VolMIP:            BMBF MiKli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200" y="10944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IP-related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01680" y="789120"/>
            <a:ext cx="85392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MPI-ESM1.2 for CMIP6 has been finalized, some technical issues (forcing, diagnostics) still pe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 -HR (ECHAM T127/ MPIOM TP04) shows considerable improvements over previous CMIP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I-ESM1.2-HR will be used for experiments in BMBF “DICAD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w-resolution version (MPI-ESM-1.2-LR, ECHAM T63/ MPIOM GR1.5) will be the “workhorse” for many MIPs and a testbed for further developments (e.g. nitrogen cy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developments will focus on finalising MPI-ESM-2 (ICON-b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8760" y="1602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asted-image.png" descr=""/>
          <p:cNvPicPr/>
          <p:nvPr/>
        </p:nvPicPr>
        <p:blipFill>
          <a:blip r:embed="rId1"/>
          <a:stretch/>
        </p:blipFill>
        <p:spPr>
          <a:xfrm>
            <a:off x="168120" y="63360"/>
            <a:ext cx="8269560" cy="63118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 rot="900000">
            <a:off x="1882440" y="2530440"/>
            <a:ext cx="3416400" cy="1692360"/>
          </a:xfrm>
          <a:prstGeom prst="ellipse">
            <a:avLst/>
          </a:prstGeom>
          <a:noFill/>
          <a:ln w="10152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900000">
            <a:off x="3132360" y="3252240"/>
            <a:ext cx="1780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2600"/>
                </a:solidFill>
                <a:latin typeface="Arial"/>
              </a:rPr>
              <a:t>MPI-ESM1.2 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920" y="609480"/>
            <a:ext cx="5037120" cy="4837320"/>
          </a:xfrm>
          <a:prstGeom prst="ellipse">
            <a:avLst/>
          </a:prstGeom>
          <a:noFill/>
          <a:ln w="7632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4640" y="5513400"/>
            <a:ext cx="1756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9193"/>
                </a:solidFill>
                <a:latin typeface="Arial"/>
              </a:rPr>
              <a:t>MPI-ESM1.2 L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3440" y="3814920"/>
            <a:ext cx="49197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-ESM1.2 re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0720" y="4586400"/>
          <a:ext cx="6464520" cy="1188720"/>
        </p:xfrm>
        <a:graphic>
          <a:graphicData uri="http://schemas.openxmlformats.org/drawingml/2006/table">
            <a:tbl>
              <a:tblPr/>
              <a:tblGrid>
                <a:gridCol w="1468800"/>
                <a:gridCol w="1117800"/>
                <a:gridCol w="1292400"/>
                <a:gridCol w="1292760"/>
                <a:gridCol w="1292760"/>
              </a:tblGrid>
              <a:tr h="396720">
                <a:tc>
                  <a:txBody>
                    <a:bodyPr lIns="45720" rIns="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osp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"/>
                      <a:stretch/>
                    </a:blipFill>
                  </a:tcPr>
                </a:tc>
              </a:tr>
              <a:tr h="70164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04/TP6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2400" y="1558800"/>
            <a:ext cx="4098600" cy="21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 code development has been frozen on 19 Jun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PI-ESM1.2-LR officially released 15 January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R in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age3.png" descr=""/>
          <p:cNvPicPr/>
          <p:nvPr/>
        </p:nvPicPr>
        <p:blipFill>
          <a:blip r:embed="rId2"/>
          <a:stretch/>
        </p:blipFill>
        <p:spPr>
          <a:xfrm>
            <a:off x="4519440" y="1087560"/>
            <a:ext cx="4588200" cy="2536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192640" y="4570560"/>
            <a:ext cx="3764160" cy="1269720"/>
          </a:xfrm>
          <a:prstGeom prst="roundRect">
            <a:avLst>
              <a:gd name="adj" fmla="val 15000"/>
            </a:avLst>
          </a:prstGeom>
          <a:noFill/>
          <a:ln w="507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87560" y="4579920"/>
            <a:ext cx="2846520" cy="1270080"/>
          </a:xfrm>
          <a:prstGeom prst="roundRect">
            <a:avLst>
              <a:gd name="adj" fmla="val 15000"/>
            </a:avLst>
          </a:prstGeom>
          <a:noFill/>
          <a:ln w="63360">
            <a:solidFill>
              <a:srgbClr val="ff2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8560" y="4253040"/>
            <a:ext cx="3426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ions not “officially”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5840" y="646200"/>
            <a:ext cx="8318520" cy="52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HAM6.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-Carlo independent column approximation (McICA) radiation scheme [option: spectral sampling in tim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es for energy conservation in atmospheric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g fix for cloud cover sch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ated stratocumulus parameter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SBAC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hydrology and soil model based on 5-pool model Y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MOC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nking velocity as function of dept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50920" indent="-250920">
              <a:spcBef>
                <a:spcPts val="601"/>
              </a:spcBef>
              <a:buClr>
                <a:srgbClr val="800000"/>
              </a:buClr>
              <a:buFont typeface="Wingdings" charset="2"/>
              <a:buChar char="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gnostic nitrogen fixers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0360" y="808200"/>
            <a:ext cx="8620200" cy="51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R (ECHAM6.3 T127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MiKlip-II forecast system, DCPPMIP, BMBF CMIP6 project with DKR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18yrs/day on 108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360" y="860400"/>
            <a:ext cx="8620200" cy="61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R (ECHAM6.3 T63L47 MPIOM1.65 GR15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ed set-up; CMIP5-type DECK final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by defaul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ynV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i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used for many MIP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ed version with interactive carbon cycle and dynamically active OBGC exist, interactive nitrogen cycle and SPITFIRE fire module in pr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70yrs/day on 32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8760" y="19836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360" y="868320"/>
            <a:ext cx="8620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868320"/>
            <a:ext cx="8620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R (ECHAM6.3 T255L95 MPIOM1.65 TP04/L40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uning phase, no DECK pl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rly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be the base model for PRIMAVERA and HighResM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to PRIMAVERA “FRONTIER” version with eddy-resolving TP6M 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: 6yrs/day on 256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ECHAM5 to ECHAM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versuch17_allVar_ANN.png" descr=""/>
          <p:cNvPicPr/>
          <p:nvPr/>
        </p:nvPicPr>
        <p:blipFill>
          <a:blip r:embed="rId1"/>
          <a:stretch/>
        </p:blipFill>
        <p:spPr>
          <a:xfrm>
            <a:off x="1971720" y="-716040"/>
            <a:ext cx="6753240" cy="87393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98520" y="4586400"/>
            <a:ext cx="3109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: 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H: Nor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: Southern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: Tr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95800" y="4700520"/>
            <a:ext cx="750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200" y="122400"/>
            <a:ext cx="882180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31859c"/>
                </a:solidFill>
                <a:latin typeface="Calibri"/>
                <a:ea typeface="Calibri"/>
              </a:rPr>
              <a:t>MPI-ESM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5840" y="646200"/>
            <a:ext cx="8318520" cy="5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88920" bIns="88920" anchor="t">
            <a:spAutoFit/>
          </a:bodyPr>
          <a:p>
            <a:pPr marL="216000" indent="-21600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lution matters: HR vs. L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18.jpg" descr=""/>
          <p:cNvPicPr/>
          <p:nvPr/>
        </p:nvPicPr>
        <p:blipFill>
          <a:blip r:embed="rId1"/>
          <a:stretch/>
        </p:blipFill>
        <p:spPr>
          <a:xfrm>
            <a:off x="1917720" y="1166760"/>
            <a:ext cx="5489640" cy="46753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43160" y="5996160"/>
            <a:ext cx="440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nce of geopotential height at 500hP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200" y="1677960"/>
            <a:ext cx="1323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A Inter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94640" y="3252960"/>
            <a:ext cx="864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920" y="4784760"/>
            <a:ext cx="90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 b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