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8AFA6-ECF0-4330-806C-056994BF1A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42DD3-28F3-4246-BA49-37197399F1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9D79C-A6CC-40BF-92F7-7022345600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9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888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9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888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408FB-2E30-4E49-8662-A61F93CE89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B8962-CA2C-4680-97B2-1594528AAE8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FBA31-5D47-4E57-985F-DB568FD6B8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F0470-299C-46F4-A3CB-7104AA88F4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E176A-FE62-4F64-8BF7-E9ACCB2E46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3DB75-6008-49B5-8028-E72F31A1BB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128520"/>
            <a:ext cx="8278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F720C-69F8-49BD-AC36-5E0EF123FC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DAB4E-0012-485A-AACA-EB6FF39B3F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6C960-07CA-4235-83D9-274A04A5E3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C73D6-5D10-47A3-AA1F-C71645E1BB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30C6F-7FA6-4353-9D84-C6A6F12847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721CB-648E-4308-9A59-94DDD30F03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37667-A968-4E41-9B6A-AE75365272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79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888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79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888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E7745-F5CE-4406-853A-10749B638B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943FB-4A8F-400D-845D-2EE3B5382E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14F05-981E-41A5-B164-75CA2E55CA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0995D-F354-4E91-BBFF-7BC5CE12D0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28520"/>
            <a:ext cx="8278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D4E3C-1F73-4499-8AE3-ACD6F4D2F2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DCA8F-77FC-433E-8A59-06C7093B26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32830-6B89-4A3F-9271-A740E3A9B6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6220C-656F-4B41-A641-C0252EC2A4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edf8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image2.pdf" descr=""/>
          <p:cNvPicPr/>
          <p:nvPr/>
        </p:nvPicPr>
        <p:blipFill>
          <a:blip r:embed="rId2"/>
          <a:stretch/>
        </p:blipFill>
        <p:spPr>
          <a:xfrm>
            <a:off x="7496280" y="6410160"/>
            <a:ext cx="1536480" cy="36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419720" y="617184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4DB6FD-0E78-4A2D-9D49-4D5C72559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edf8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1.pdf" descr=""/>
          <p:cNvPicPr/>
          <p:nvPr/>
        </p:nvPicPr>
        <p:blipFill>
          <a:blip r:embed="rId2"/>
          <a:stretch/>
        </p:blipFill>
        <p:spPr>
          <a:xfrm>
            <a:off x="125280" y="6410160"/>
            <a:ext cx="358920" cy="360360"/>
          </a:xfrm>
          <a:prstGeom prst="rect">
            <a:avLst/>
          </a:prstGeom>
          <a:ln w="0">
            <a:noFill/>
          </a:ln>
        </p:spPr>
      </p:pic>
      <p:pic>
        <p:nvPicPr>
          <p:cNvPr id="43" name="image2.pdf" descr=""/>
          <p:cNvPicPr/>
          <p:nvPr/>
        </p:nvPicPr>
        <p:blipFill>
          <a:blip r:embed="rId3"/>
          <a:stretch/>
        </p:blipFill>
        <p:spPr>
          <a:xfrm>
            <a:off x="7496280" y="6410160"/>
            <a:ext cx="1536480" cy="360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ldNum" idx="2"/>
          </p:nvPr>
        </p:nvSpPr>
        <p:spPr>
          <a:xfrm>
            <a:off x="4419720" y="617184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F22FC1-E50A-4E10-9506-C1A80300C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5880" indent="559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5880" indent="1007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5880" indent="145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5880" indent="145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5880" indent="145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87956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1859c"/>
                </a:solidFill>
                <a:latin typeface="Calibri"/>
                <a:ea typeface="Calibri"/>
              </a:rPr>
              <a:t>MPI-ESM 1.2 in CMIP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58960" y="4148280"/>
            <a:ext cx="737856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hann Jungcla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thias Bittner, Thorsten Mauritsen, Monika Esch, Tatiana Ilyina, Irene Stemler, Helmuth Haak, Luis Kornblueh,  Marco Giorgetta, Karl-Hermann Wieners, Michael Botzet, Wolfgang Mueller, Kameshwar Rao Modali, Christian Reick, Reiner Schnur, Julia Pongratz, Thomas Raddatz, Hauke Schmidt, Claudia Timmreck et al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73280" y="6411960"/>
            <a:ext cx="73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MBF-CMIP6 KickOff, July 19, 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60200" y="3348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image21.jpg" descr=""/>
          <p:cNvPicPr/>
          <p:nvPr/>
        </p:nvPicPr>
        <p:blipFill>
          <a:blip r:embed="rId1"/>
          <a:stretch/>
        </p:blipFill>
        <p:spPr>
          <a:xfrm>
            <a:off x="1239840" y="593640"/>
            <a:ext cx="2903400" cy="1763640"/>
          </a:xfrm>
          <a:prstGeom prst="rect">
            <a:avLst/>
          </a:prstGeom>
          <a:ln w="0">
            <a:noFill/>
          </a:ln>
        </p:spPr>
      </p:pic>
      <p:pic>
        <p:nvPicPr>
          <p:cNvPr id="127" name="image22.jpg" descr=""/>
          <p:cNvPicPr/>
          <p:nvPr/>
        </p:nvPicPr>
        <p:blipFill>
          <a:blip r:embed="rId2"/>
          <a:stretch/>
        </p:blipFill>
        <p:spPr>
          <a:xfrm>
            <a:off x="4986360" y="593640"/>
            <a:ext cx="2903400" cy="1763640"/>
          </a:xfrm>
          <a:prstGeom prst="rect">
            <a:avLst/>
          </a:prstGeom>
          <a:ln w="0">
            <a:noFill/>
          </a:ln>
        </p:spPr>
      </p:pic>
      <p:pic>
        <p:nvPicPr>
          <p:cNvPr id="128" name="image23.jpg" descr=""/>
          <p:cNvPicPr/>
          <p:nvPr/>
        </p:nvPicPr>
        <p:blipFill>
          <a:blip r:embed="rId3"/>
          <a:stretch/>
        </p:blipFill>
        <p:spPr>
          <a:xfrm>
            <a:off x="1239840" y="2473200"/>
            <a:ext cx="2903400" cy="1764000"/>
          </a:xfrm>
          <a:prstGeom prst="rect">
            <a:avLst/>
          </a:prstGeom>
          <a:ln w="0">
            <a:noFill/>
          </a:ln>
        </p:spPr>
      </p:pic>
      <p:pic>
        <p:nvPicPr>
          <p:cNvPr id="129" name="image24.png" descr=""/>
          <p:cNvPicPr/>
          <p:nvPr/>
        </p:nvPicPr>
        <p:blipFill>
          <a:blip r:embed="rId4"/>
          <a:stretch/>
        </p:blipFill>
        <p:spPr>
          <a:xfrm>
            <a:off x="5076720" y="2473200"/>
            <a:ext cx="2900520" cy="1764000"/>
          </a:xfrm>
          <a:prstGeom prst="rect">
            <a:avLst/>
          </a:prstGeom>
          <a:ln w="0">
            <a:noFill/>
          </a:ln>
        </p:spPr>
      </p:pic>
      <p:pic>
        <p:nvPicPr>
          <p:cNvPr id="130" name="image25.jpg" descr=""/>
          <p:cNvPicPr/>
          <p:nvPr/>
        </p:nvPicPr>
        <p:blipFill>
          <a:blip r:embed="rId5"/>
          <a:stretch/>
        </p:blipFill>
        <p:spPr>
          <a:xfrm>
            <a:off x="1239840" y="4395960"/>
            <a:ext cx="2903400" cy="1763640"/>
          </a:xfrm>
          <a:prstGeom prst="rect">
            <a:avLst/>
          </a:prstGeom>
          <a:ln w="0">
            <a:noFill/>
          </a:ln>
        </p:spPr>
      </p:pic>
      <p:pic>
        <p:nvPicPr>
          <p:cNvPr id="131" name="image26.jpg" descr=""/>
          <p:cNvPicPr/>
          <p:nvPr/>
        </p:nvPicPr>
        <p:blipFill>
          <a:blip r:embed="rId6"/>
          <a:stretch/>
        </p:blipFill>
        <p:spPr>
          <a:xfrm>
            <a:off x="5075280" y="4395960"/>
            <a:ext cx="2903400" cy="1763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31840" y="1001880"/>
            <a:ext cx="625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8320" y="3179880"/>
            <a:ext cx="447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8320" y="4929120"/>
            <a:ext cx="485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35360" y="127080"/>
            <a:ext cx="105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98680" y="127080"/>
            <a:ext cx="1171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14640" y="6140520"/>
            <a:ext cx="3249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 of blocking days per seas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5840" y="544680"/>
            <a:ext cx="83185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lution matters: but notorious biases re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8760" y="235584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8960" y="4405320"/>
            <a:ext cx="90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2.png" descr=""/>
          <p:cNvPicPr/>
          <p:nvPr/>
        </p:nvPicPr>
        <p:blipFill>
          <a:blip r:embed="rId1"/>
          <a:stretch/>
        </p:blipFill>
        <p:spPr>
          <a:xfrm>
            <a:off x="2281320" y="969840"/>
            <a:ext cx="4579920" cy="3124440"/>
          </a:xfrm>
          <a:prstGeom prst="rect">
            <a:avLst/>
          </a:prstGeom>
          <a:ln w="0">
            <a:noFill/>
          </a:ln>
        </p:spPr>
      </p:pic>
      <p:pic>
        <p:nvPicPr>
          <p:cNvPr id="143" name="image3.png" descr=""/>
          <p:cNvPicPr/>
          <p:nvPr/>
        </p:nvPicPr>
        <p:blipFill>
          <a:blip r:embed="rId2"/>
          <a:srcRect l="0" t="13896" r="0" b="0"/>
          <a:stretch/>
        </p:blipFill>
        <p:spPr>
          <a:xfrm>
            <a:off x="2341440" y="3664080"/>
            <a:ext cx="4579920" cy="2652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818800" y="6342120"/>
            <a:ext cx="3149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 surface temperature b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440" y="1022400"/>
            <a:ext cx="74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d biogeochemi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7440" y="1484280"/>
            <a:ext cx="528624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171360" indent="-17136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hydrology and soil model based on 5-pool model YA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image4.png" descr=""/>
          <p:cNvPicPr/>
          <p:nvPr/>
        </p:nvPicPr>
        <p:blipFill>
          <a:blip r:embed="rId1"/>
          <a:stretch/>
        </p:blipFill>
        <p:spPr>
          <a:xfrm>
            <a:off x="5616720" y="1000080"/>
            <a:ext cx="3187440" cy="5229360"/>
          </a:xfrm>
          <a:prstGeom prst="rect">
            <a:avLst/>
          </a:prstGeom>
          <a:ln w="0">
            <a:noFill/>
          </a:ln>
        </p:spPr>
      </p:pic>
      <p:pic>
        <p:nvPicPr>
          <p:cNvPr id="149" name="image5.png" descr=""/>
          <p:cNvPicPr/>
          <p:nvPr/>
        </p:nvPicPr>
        <p:blipFill>
          <a:blip r:embed="rId2"/>
          <a:stretch/>
        </p:blipFill>
        <p:spPr>
          <a:xfrm>
            <a:off x="603360" y="2701800"/>
            <a:ext cx="4060800" cy="27338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840960" y="6370560"/>
            <a:ext cx="20656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ll et al., GBC,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82480" y="6134040"/>
            <a:ext cx="2506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n over yrs 1986–200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94080" y="5429160"/>
            <a:ext cx="42253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TL: CMIP5 version of JSB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SSO: JSBACH with YASSO by Lieski et 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15040" y="787320"/>
            <a:ext cx="1914840" cy="33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soil C sto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8760" y="26208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0360" y="909720"/>
            <a:ext cx="74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ean biogeochemi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0360" y="1752480"/>
            <a:ext cx="74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king velocity as function of dep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0360" y="1344600"/>
            <a:ext cx="741672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114480" indent="-114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rognostic nitrogen fix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image7.png" descr=""/>
          <p:cNvPicPr/>
          <p:nvPr/>
        </p:nvPicPr>
        <p:blipFill>
          <a:blip r:embed="rId1"/>
          <a:srcRect l="0" t="0" r="52874" b="0"/>
          <a:stretch/>
        </p:blipFill>
        <p:spPr>
          <a:xfrm>
            <a:off x="158760" y="2598840"/>
            <a:ext cx="3997440" cy="2219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60360" y="2482920"/>
            <a:ext cx="148608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st wp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2960" y="2359080"/>
            <a:ext cx="741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c sedi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image8.png" descr=""/>
          <p:cNvPicPr/>
          <p:nvPr/>
        </p:nvPicPr>
        <p:blipFill>
          <a:blip r:embed="rId2"/>
          <a:stretch/>
        </p:blipFill>
        <p:spPr>
          <a:xfrm>
            <a:off x="4591080" y="2879640"/>
            <a:ext cx="3968640" cy="2773440"/>
          </a:xfrm>
          <a:prstGeom prst="rect">
            <a:avLst/>
          </a:prstGeom>
          <a:ln w="0">
            <a:noFill/>
          </a:ln>
        </p:spPr>
      </p:pic>
      <p:pic>
        <p:nvPicPr>
          <p:cNvPr id="162" name="image7.tif" descr=""/>
          <p:cNvPicPr/>
          <p:nvPr/>
        </p:nvPicPr>
        <p:blipFill>
          <a:blip r:embed="rId3"/>
          <a:srcRect l="51770" t="9927" r="1134" b="9126"/>
          <a:stretch/>
        </p:blipFill>
        <p:spPr>
          <a:xfrm>
            <a:off x="162000" y="4641840"/>
            <a:ext cx="3994200" cy="17971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51000" y="4387680"/>
            <a:ext cx="3238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poc(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asted-image.png" descr=""/>
          <p:cNvPicPr/>
          <p:nvPr/>
        </p:nvPicPr>
        <p:blipFill>
          <a:blip r:embed="rId1"/>
          <a:srcRect l="0" t="0" r="3838" b="0"/>
          <a:stretch/>
        </p:blipFill>
        <p:spPr>
          <a:xfrm>
            <a:off x="241200" y="3240"/>
            <a:ext cx="8353440" cy="629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adaptation for CMIP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5840" y="646200"/>
            <a:ext cx="831852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31840" indent="-2318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forc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MIP6 forcing data sets are available (although some not in their final version), some are still pending (oz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in models (not only MPI-ESM) revealed issues (e.g. Tropopause boundary for stratospheric aeroso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PI-ESM1.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tion and testing of CMIP6 is under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delays due to late delivery and technic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of CMIP6 output variables and diagno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: August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58760" y="1476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IPs @ MPI-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2640" y="671400"/>
            <a:ext cx="7948800" cy="61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ff26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D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2600"/>
                </a:solidFill>
                <a:latin typeface="Arial"/>
                <a:ea typeface="Arial"/>
              </a:rPr>
              <a:t>piControl, 1%CO2increase/4x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ff26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Historicals </a:t>
            </a:r>
            <a:r>
              <a:rPr b="0" lang="en-US" sz="1800" spc="-1" strike="noStrike">
                <a:solidFill>
                  <a:srgbClr val="ff2600"/>
                </a:solidFill>
                <a:latin typeface="Arial"/>
              </a:rPr>
              <a:t>(with DKR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ff26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ScenarioMIP </a:t>
            </a:r>
            <a:r>
              <a:rPr b="0" lang="en-US" sz="1800" spc="-1" strike="noStrike">
                <a:solidFill>
                  <a:srgbClr val="ff2600"/>
                </a:solidFill>
                <a:latin typeface="Arial"/>
              </a:rPr>
              <a:t>(with DKR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CP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adal climate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ighRes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IP/CPLD up to T255/TP6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Millennium, LGM, MidHolocene (other PMIP simulations by AW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AF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ised experiments driven by prescribed fluxes (in cooperation with IfM Hambur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a-ice (diagnosti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pled ice sheet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4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bon/nitrogen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ol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dealised volcanic perturb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U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mpacts of land Use/land c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S3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d surface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o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Geo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F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adiative Fo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ts val="18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ts val="18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38040" y="549360"/>
            <a:ext cx="7723440" cy="56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IP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Project(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istorical:         DKRZ-BMB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CENARIOS:   DKRZ-BMB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CPP:              BMBF MiKl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4MIP:             EU H2020 CRESC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AFMIP:           DFG SPP Sea Leve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GeoMIP:           DFG SPP1689, CELAR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ResMIP:    H2020 PRIMAVE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SMIP6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BMBF-PalM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S3MIP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EU H2020 CRESC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UMIP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EU H2020 CRESC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MIP:               BMBF PalMod / JPI: PACMED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FMIP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EU FP7 BACCH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VolMIP:            BMBF MiKli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0200" y="10944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IP-related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01680" y="789120"/>
            <a:ext cx="853920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MPI-ESM1.2 for CMIP6 has been finalized, some technical issues (forcing, diagnostics) still p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ESM1.2 -HR (ECHAM T127/ MPIOM TP04) shows considerable improvements over previous CMIP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ESM1.2-HR will be used for experiments in BMBF “DICA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w-resolution version (MPI-ESM-1.2-LR, ECHAM T63/ MPIOM GR1.5) will be the “workhorse” for many MIPs and a testbed for further developments (e.g. nitrogen cyc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developments will focus on finalising MPI-ESM-2 (ICON-b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8760" y="1602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asted-image.png" descr=""/>
          <p:cNvPicPr/>
          <p:nvPr/>
        </p:nvPicPr>
        <p:blipFill>
          <a:blip r:embed="rId1"/>
          <a:stretch/>
        </p:blipFill>
        <p:spPr>
          <a:xfrm>
            <a:off x="168120" y="63360"/>
            <a:ext cx="8269560" cy="6311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rot="900000">
            <a:off x="1882440" y="2530440"/>
            <a:ext cx="3416400" cy="1692360"/>
          </a:xfrm>
          <a:prstGeom prst="ellipse">
            <a:avLst/>
          </a:prstGeom>
          <a:noFill/>
          <a:ln w="101520">
            <a:solidFill>
              <a:srgbClr val="ff2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900000">
            <a:off x="3132360" y="3252240"/>
            <a:ext cx="1780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MPI-ESM1.2 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920" y="609480"/>
            <a:ext cx="5037120" cy="4837320"/>
          </a:xfrm>
          <a:prstGeom prst="ellipse">
            <a:avLst/>
          </a:pr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4640" y="5513400"/>
            <a:ext cx="1756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93"/>
                </a:solidFill>
                <a:latin typeface="Arial"/>
              </a:rPr>
              <a:t>MPI-ESM1.2 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3440" y="3814920"/>
            <a:ext cx="4919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PI-ESM1.2 re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0720" y="4586400"/>
          <a:ext cx="6464520" cy="1188720"/>
        </p:xfrm>
        <a:graphic>
          <a:graphicData uri="http://schemas.openxmlformats.org/drawingml/2006/table">
            <a:tbl>
              <a:tblPr/>
              <a:tblGrid>
                <a:gridCol w="1468800"/>
                <a:gridCol w="1117800"/>
                <a:gridCol w="1292400"/>
                <a:gridCol w="1292760"/>
                <a:gridCol w="1292760"/>
              </a:tblGrid>
              <a:tr h="396720">
                <a:tc>
                  <a:txBody>
                    <a:bodyPr lIns="45720" rIns="45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mosp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2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</a:tr>
              <a:tr h="70164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04/TP6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122400" y="1558800"/>
            <a:ext cx="4098600" cy="21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PI-ESM1.2 code development has been frozen on 19 June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PI-ESM1.2-LR officially released 15 January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R in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image3.png" descr=""/>
          <p:cNvPicPr/>
          <p:nvPr/>
        </p:nvPicPr>
        <p:blipFill>
          <a:blip r:embed="rId2"/>
          <a:stretch/>
        </p:blipFill>
        <p:spPr>
          <a:xfrm>
            <a:off x="4519440" y="1087560"/>
            <a:ext cx="4588200" cy="2536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192640" y="4570560"/>
            <a:ext cx="3764160" cy="1269720"/>
          </a:xfrm>
          <a:prstGeom prst="roundRect">
            <a:avLst>
              <a:gd name="adj" fmla="val 15000"/>
            </a:avLst>
          </a:prstGeom>
          <a:noFill/>
          <a:ln w="507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87560" y="4579920"/>
            <a:ext cx="2846520" cy="1270080"/>
          </a:xfrm>
          <a:prstGeom prst="roundRect">
            <a:avLst>
              <a:gd name="adj" fmla="val 15000"/>
            </a:avLst>
          </a:prstGeom>
          <a:noFill/>
          <a:ln w="63360">
            <a:solidFill>
              <a:srgbClr val="ff2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8560" y="4253040"/>
            <a:ext cx="3426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ions not “officially”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5840" y="646200"/>
            <a:ext cx="8318520" cy="52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50920" indent="-2509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HAM6.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e-Carlo independent column approximation (McICA) radiation scheme [option: spectral sampling in tim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g fixes for energy conservation in atmospheric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g fix for cloud cover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ated stratocumulus parameter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SBAC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hydrology and soil model based on 5-pool model YA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MOC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nking velocity as function of dept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gnostic nitrogen fixer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0360" y="868320"/>
            <a:ext cx="86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0360" y="808200"/>
            <a:ext cx="862020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R (ECHAM6.3 T127L95 MPIOM1.65 TP04/L40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ed set-up; CMIP5-type D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ynV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rly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the base model for MiKlip-II forecast system, DCPPMIP, BMBF CMIP6 project with DKR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: 18yrs/day on 108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0360" y="868320"/>
            <a:ext cx="86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0360" y="860400"/>
            <a:ext cx="8620200" cy="61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R (ECHAM6.3 T63L47 MPIOM1.65 GR15/L40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ed set-up; CMIP5-type DECK final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by defaul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ynV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ily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used for many MIP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ed version with interactive carbon cycle and dynamically active OBGC exist, interactive nitrogen cycle and SPITFIRE fire module in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: 70yrs/day on 32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0360" y="868320"/>
            <a:ext cx="86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868320"/>
            <a:ext cx="8620200" cy="56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R (ECHAM6.3 T255L95 MPIOM1.65 TP04/L40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uning phase, no DECK pl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rly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the base model for PRIMAVERA and HighResM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 to PRIMAVERA “FRONTIER” version with eddy-resolving TP6M oc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: 6yrs/day on 256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5840" y="646200"/>
            <a:ext cx="83185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ECHAM5 to ECHAM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versuch17_allVar_ANN.png" descr=""/>
          <p:cNvPicPr/>
          <p:nvPr/>
        </p:nvPicPr>
        <p:blipFill>
          <a:blip r:embed="rId1"/>
          <a:stretch/>
        </p:blipFill>
        <p:spPr>
          <a:xfrm>
            <a:off x="1971720" y="-716040"/>
            <a:ext cx="6753240" cy="8739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98520" y="4586400"/>
            <a:ext cx="31096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: 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: Northern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: Southern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: Tro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95800" y="4700520"/>
            <a:ext cx="750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5840" y="646200"/>
            <a:ext cx="83185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lution matters: HR vs. L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image18.jpg" descr=""/>
          <p:cNvPicPr/>
          <p:nvPr/>
        </p:nvPicPr>
        <p:blipFill>
          <a:blip r:embed="rId1"/>
          <a:stretch/>
        </p:blipFill>
        <p:spPr>
          <a:xfrm>
            <a:off x="1917720" y="1166760"/>
            <a:ext cx="5489640" cy="4675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243160" y="5996160"/>
            <a:ext cx="440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nce of geopotential height at 500hP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1200" y="1677960"/>
            <a:ext cx="1323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A Inter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4640" y="325296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3920" y="4784760"/>
            <a:ext cx="90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